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755-CD05-48FD-8324-2CCF6A0B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421-429D-421F-81A5-DA1997B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B27-7B16-4E27-9251-EA5114BE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2DB-20A7-4045-99ED-135D9B1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B0B-3D0B-4A8E-ADA1-F20C223D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957-B8C4-4395-9DB3-E3C4CAFA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368-3552-4606-8608-EBACD2B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BBC-BDD6-47AE-9BBA-6A1CADF5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24D-3196-4473-ADFC-D85281A5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4AB-CB15-4516-8B48-D333377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C94-F67F-48FE-B231-ACAD249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093-5FD9-4737-970E-DD1DF38B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253-ACC3-4441-915B-1A59204A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monopoly.html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403848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Nick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Com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380880"/>
            <a:ext cx="5333760" cy="632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101"/>
                    </a:gs>
                    <a:gs pos="100000">
                      <a:srgbClr val="750000"/>
                    </a:gs>
                  </a:gsLst>
                  <a:lin ang="13500000"/>
                </a:gradFill>
                <a:latin typeface="Impact"/>
              </a:rPr>
              <a:t>Monopol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101"/>
                  </a:gs>
                  <a:gs pos="100000">
                    <a:srgbClr val="75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609480"/>
            <a:ext cx="29718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25520" y="552276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ys The Limi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305 -0.4926 C -0.43455 -0.48403 -0.43159 -0.47038 -0.42778 -0.45741 C -0.42778 -0.45741 -0.4243 -0.44352 -0.42361 -0.44075 C -0.42309 -0.43889 -0.42222 -0.43519 -0.42222 -0.43519 C -0.42083 -0.41575 -0.41788 -0.40857 -0.41389 -0.39075 C -0.41024 -0.37431 -0.40764 -0.35602 -0.40139 -0.34075 C -0.39878 -0.3345 -0.39583 -0.32848 -0.39305 -0.32223 C -0.39028 -0.31621 -0.38576 -0.31181 -0.3835 -0.30556 C -0.37986 -0.2963 -0.37743 -0.28681 -0.37378 -0.27778 C -0.36979 -0.26829 -0.36771 -0.26829 -0.36528 -0.25926 C -0.36284 -0.25024 -0.36076 -0.24352 -0.35694 -0.23519 C -0.35607 -0.23056 -0.35347 -0.22686 -0.35278 -0.22223 C -0.35173 -0.21551 -0.35225 -0.20857 -0.35139 -0.20186 C -0.35087 -0.19792 -0.34861 -0.19075 -0.34861 -0.19075 C -0.34774 -0.16227 -0.3467 -0.13403 -0.34583 -0.10556 C -0.34531 -0.09051 -0.33975 -0.07408 -0.3375 -0.05926 C -0.33594 -0.08936 -0.33611 -0.10255 -0.32222 -0.12408 C -0.31597 -0.1338 -0.32135 -0.13056 -0.3125 -0.13334 C -0.30746 -0.13797 -0.30191 -0.13866 -0.29583 -0.14075 C -0.26059 -0.13681 -0.26875 -0.1426 -0.25 -0.12593 C -0.24375 -0.11343 -0.23559 -0.10417 -0.23055 -0.09075 C -0.22864 -0.07825 -0.22448 -0.0676 -0.22222 -0.05556 C -0.22066 -0.06227 -0.21823 -0.06806 -0.21528 -0.07408 C -0.21371 -0.08195 -0.21215 -0.09491 -0.20833 -0.10186 C -0.20295 -0.11158 -0.19479 -0.11991 -0.18889 -0.12963 C -0.18715 -0.13241 -0.18663 -0.13612 -0.18489 -0.13889 C -0.18107 -0.14445 -0.17534 -0.14607 -0.17083 -0.15001 C -0.1559 -0.14676 -0.15607 -0.14144 -0.14861 -0.12593 C -0.14184 -0.11158 -0.13541 -0.09931 -0.13055 -0.08334 C -0.1283 -0.07616 -0.12691 -0.06852 -0.125 -0.06112 C -0.12326 -0.05394 -0.12222 -0.03889 -0.12222 -0.03889 C -0.11979 -0.04399 -0.11649 -0.04838 -0.11389 -0.05371 C -0.11337 -0.05533 -0.11337 -0.05764 -0.1125 -0.05926 C -0.11163 -0.06135 -0.10972 -0.06274 -0.1085 -0.06482 C -0.10694 -0.06713 -0.10538 -0.06968 -0.10416 -0.07223 C -0.10121 -0.07848 -0.10069 -0.08519 -0.09722 -0.09075 C -0.09149 -0.09977 -0.08107 -0.10811 -0.07361 -0.11482 C -0.06996 -0.11413 -0.06597 -0.11459 -0.0625 -0.11297 C -0.05903 -0.11135 -0.05746 -0.10579 -0.05416 -0.10371 C -0.04965 -0.1007 -0.04896 -0.10301 -0.04444 -0.09815 C -0.04097 -0.09422 -0.03472 -0.08519 -0.03472 -0.08519 C -0.03281 -0.07454 -0.02847 -0.07362 -0.02361 -0.06482 C -0.02048 -0.05209 -0.01354 -0.04213 -0.00972 -0.02963 C -0.00868 -0.02593 -0.00781 -0.02223 -0.00694 -0.01852 C -0.00642 -0.01667 -0.00555 -0.01297 -0.00555 -0.01297 C -0.00399 0.00186 -0.00746 -8.14815E-006 -2.22222E-006 -8.14815E-006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onopoly"/>
          <p:cNvPicPr/>
          <p:nvPr/>
        </p:nvPicPr>
        <p:blipFill>
          <a:blip r:embed="rId2"/>
          <a:stretch/>
        </p:blipFill>
        <p:spPr>
          <a:xfrm>
            <a:off x="0" y="4191120"/>
            <a:ext cx="4800600" cy="1479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les Darr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onopo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onopoly game"/>
          <p:cNvPicPr/>
          <p:nvPr/>
        </p:nvPicPr>
        <p:blipFill>
          <a:blip r:embed="rId4"/>
          <a:stretch/>
        </p:blipFill>
        <p:spPr>
          <a:xfrm>
            <a:off x="4800600" y="2743200"/>
            <a:ext cx="4343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418"/>
                </a:solidFill>
                <a:latin typeface="바탕"/>
              </a:rPr>
              <a:t>Invention/ Mon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Board was originally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Modeled after Atlantic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Created in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Turned down by Parker Brothers at first but was later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Originally only 4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First real estate game to buy houses not just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53ad"/>
                </a:solidFill>
                <a:latin typeface="바탕"/>
              </a:rPr>
              <a:t>Inventor: Charles D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Played a game called the landlords game as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Made millions from it in only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From German Town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Unemployed during the 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4:19Z</dcterms:created>
  <dc:creator>install</dc:creator>
  <dc:description/>
  <dc:language>en-US</dc:language>
  <cp:lastModifiedBy>install</cp:lastModifiedBy>
  <dcterms:modified xsi:type="dcterms:W3CDTF">2011-06-01T17:37:57Z</dcterms:modified>
  <cp:revision>9</cp:revision>
  <dc:subject/>
  <dc:title>Slide 1</dc:title>
</cp:coreProperties>
</file>